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997680" cy="9194760"/>
          </a:xfrm>
          <a:custGeom>
            <a:avLst/>
            <a:gdLst>
              <a:gd name="textAreaLeft" fmla="*/ 360 w 6997680"/>
              <a:gd name="textAreaRight" fmla="*/ 6997320 w 6997680"/>
              <a:gd name="textAreaTop" fmla="*/ 360 h 9194760"/>
              <a:gd name="textAreaBottom" fmla="*/ 9194400 h 9194760"/>
            </a:gdLst>
            <a:ahLst/>
            <a:rect l="textAreaLeft" t="textAreaTop" r="textAreaRight" b="textAreaBottom"/>
            <a:pathLst>
              <a:path w="21600" h="28381">
                <a:moveTo>
                  <a:pt x="4" y="0"/>
                </a:moveTo>
                <a:arcTo wR="4" hR="4" stAng="16200000" swAng="-5400000"/>
                <a:lnTo>
                  <a:pt x="0" y="28377"/>
                </a:lnTo>
                <a:arcTo wR="4" hR="4" stAng="10800000" swAng="-5400000"/>
                <a:lnTo>
                  <a:pt x="21596" y="2838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9320" cy="446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963600" y="-360"/>
            <a:ext cx="3019320" cy="446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99880" y="690120"/>
            <a:ext cx="4584600" cy="34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99840" y="4366800"/>
            <a:ext cx="5584680" cy="41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19320" cy="446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963600" y="8732520"/>
            <a:ext cx="3019320" cy="446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8F7B8-DD48-4E04-96C2-0440B25784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00240" y="69048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99840" y="4366800"/>
            <a:ext cx="55926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on't talk about compartments, but rather about EXPRESS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00240" y="69048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00200" y="4366800"/>
            <a:ext cx="55864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00240" y="69048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00200" y="4366800"/>
            <a:ext cx="55864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00240" y="69048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00200" y="4366800"/>
            <a:ext cx="55864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00240" y="69048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00200" y="4366800"/>
            <a:ext cx="55864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94D-F857-4CC3-BC23-4D5CD635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D89-E994-4B90-B905-EB7DF7E6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75C-143F-4EC5-8C9B-599EF11A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2E3-CB8D-4F9B-8450-0A588B2D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A1D-4307-43D5-A08B-B41974CB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817-DC48-4893-8360-17222519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215-1941-4AB4-9804-2D724DB4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5C0-18FA-49E4-AC26-9C693E47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70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080-7B35-4994-93B7-3DF67102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3FD-49FA-4299-A0FC-F1D1280B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DD2-D9DB-4395-A13F-39C0FDD7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DB6-B6CC-4CE5-A92B-659A9985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23BC7-BC92-4EEE-BBAF-A85336982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6988320"/>
            <a:ext cx="540396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154320"/>
            <a:ext cx="2666880" cy="233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3146400" cy="4495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279000"/>
            <a:ext cx="78771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Glypican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osophil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wing  imaginal disc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 pattern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3280" y="2362320"/>
            <a:ext cx="5410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500" spc="-1" strike="noStrike">
                <a:solidFill>
                  <a:srgbClr val="ffffff"/>
                </a:solidFill>
                <a:latin typeface="Arial"/>
              </a:rPr>
              <a:t>Solving biological problems with Maths – Prof. Bergman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52280" y="578016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1600" spc="-1" strike="noStrike">
                <a:solidFill>
                  <a:srgbClr val="00ff00"/>
                </a:solidFill>
                <a:latin typeface="Verdana"/>
                <a:ea typeface="Arial"/>
              </a:rPr>
              <a:t>Aitana Morton de Lachap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Verdana"/>
                <a:ea typeface="Arial"/>
              </a:rPr>
              <a:t>Department of Medical Genetics – UN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  <a:ea typeface="Arial"/>
              </a:rPr>
              <a:t>&amp; Swiss Institute of Bioinfor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78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  <a:ea typeface="Arial"/>
              </a:rPr>
              <a:t>Group of Sven Berg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43600"/>
            <a:ext cx="2971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320" y="6095880"/>
            <a:ext cx="1068120" cy="54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838080" cy="53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209680" y="6019920"/>
            <a:ext cx="68580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800" spc="-1" strike="noStrike">
                <a:solidFill>
                  <a:srgbClr val="3399ff"/>
                </a:solidFill>
                <a:latin typeface="Verdana"/>
              </a:rPr>
              <a:t>Introduction : morphogè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878040"/>
            <a:ext cx="7620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n biologie du développement, un </a:t>
            </a:r>
            <a:r>
              <a:rPr b="1" i="1" lang="fr-CH" sz="1800" spc="-1" strike="noStrike">
                <a:solidFill>
                  <a:srgbClr val="000000"/>
                </a:solidFill>
                <a:latin typeface="Arial"/>
              </a:rPr>
              <a:t>morphogène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est une molécule secrétée ayant la propriété d'induire des types cellulaires (TC) différents à des concentrations diffé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Le morphogène est généralement produit en une source localisée puis diffuse dans le tissu/embryon pour déterminer le motif d'expression des gènes c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55760" y="6280200"/>
            <a:ext cx="6080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163160" y="4917960"/>
            <a:ext cx="8794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163160" y="5589720"/>
            <a:ext cx="1544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3840" y="469116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1880" y="537372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-309240" y="489492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12480" y="606096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398680" y="4756320"/>
            <a:ext cx="6256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3880" y="638316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46040" y="6383160"/>
            <a:ext cx="6098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2400" y="3124080"/>
            <a:ext cx="1219320" cy="45720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35040" y="4083120"/>
            <a:ext cx="5486400" cy="2082600"/>
          </a:xfrm>
          <a:custGeom>
            <a:avLst/>
            <a:gdLst/>
            <a:ahLst/>
            <a:rect l="l" t="t" r="r" b="b"/>
            <a:pathLst>
              <a:path w="3456" h="1312">
                <a:moveTo>
                  <a:pt x="0" y="0"/>
                </a:moveTo>
                <a:cubicBezTo>
                  <a:pt x="188" y="352"/>
                  <a:pt x="376" y="704"/>
                  <a:pt x="720" y="912"/>
                </a:cubicBezTo>
                <a:cubicBezTo>
                  <a:pt x="1064" y="1120"/>
                  <a:pt x="1608" y="1184"/>
                  <a:pt x="2064" y="1248"/>
                </a:cubicBezTo>
                <a:cubicBezTo>
                  <a:pt x="2520" y="1312"/>
                  <a:pt x="3224" y="1288"/>
                  <a:pt x="3456" y="1296"/>
                </a:cubicBezTo>
              </a:path>
            </a:pathLst>
          </a:custGeom>
          <a:noFill/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343160" y="3687480"/>
            <a:ext cx="1440" cy="260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168560" y="5916600"/>
            <a:ext cx="27302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0080" y="573264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65480" y="63738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C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4720" y="63817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46320" y="3014640"/>
            <a:ext cx="2209680" cy="68580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4200" y="63738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09840" y="63752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23920" y="4917960"/>
            <a:ext cx="1800" cy="324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5589720"/>
            <a:ext cx="32040" cy="294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92680" y="5921280"/>
            <a:ext cx="31680" cy="269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7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800" spc="-1" strike="noStrike">
                <a:solidFill>
                  <a:srgbClr val="3399ff"/>
                </a:solidFill>
                <a:latin typeface="Verdana"/>
              </a:rPr>
              <a:t>Introduction : D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878040"/>
            <a:ext cx="7620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Dpp est un morphogène présent dans le disc imaginal de l'a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l détermine l'axe antérieur-postérieur de l'a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51440" y="2805120"/>
            <a:ext cx="377172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442764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800" spc="-1" strike="noStrike">
                <a:solidFill>
                  <a:srgbClr val="3399ff"/>
                </a:solidFill>
                <a:latin typeface="Verdana"/>
              </a:rPr>
              <a:t>Introduction : glyp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14400" y="4332240"/>
            <a:ext cx="730080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8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CH" sz="2800" spc="-1" strike="noStrike">
                <a:solidFill>
                  <a:srgbClr val="3399ff"/>
                </a:solidFill>
                <a:latin typeface="Verdana"/>
              </a:rPr>
              <a:t>Buts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9400" y="1506240"/>
            <a:ext cx="8218440" cy="19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mprendre le rôle des morphogènes en biologie du développ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terpréter les résultats expérimentaux présentés dans la litérature scientif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mprendre le rôle des glypicans dans la formation du gradient de D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760" y="3594240"/>
            <a:ext cx="821844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éfléchir quantitativement aux phénomè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Poser un problème mathématiquement (simulations dans le temps et l'espac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pprendre à utiliser le logiciel d'analyse de données et simulations Mat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terpréter des résultats biologiques à l'aide d'outils mathémat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Aitan</dc:creator>
  <dc:description/>
  <dc:language>en-US</dc:language>
  <cp:lastModifiedBy>Aitana Morton de Lachapelle</cp:lastModifiedBy>
  <cp:revision>0</cp:revision>
  <dc:subject/>
  <dc:title>Diapositive 1</dc:title>
</cp:coreProperties>
</file>